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9B1-F221-42A2-9F5A-DB229F58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75A-7260-4F72-9816-27AD437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F47-9F99-4B4C-A334-097F4C3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200-E9F5-430E-8CB6-71B6EF05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853-6E06-4C72-8859-4208170E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C33-661E-46B0-82D0-B0C0B4B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3FB-7A94-4CBD-9B7B-20CA0F8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BF3-D1E4-482D-9CEE-16D228B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246-A43A-45F6-8F97-2AB398ED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347-04D0-47D8-B254-17FB755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41D-4266-4231-AD58-EE64E86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8D3-3267-4618-84FE-9AB2E2A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1AC-B8C3-4EC8-9B94-F36CC57FD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rtmug" descr=""/>
          <p:cNvPicPr/>
          <p:nvPr/>
        </p:nvPicPr>
        <p:blipFill>
          <a:blip r:embed="rId1"/>
          <a:stretch/>
        </p:blipFill>
        <p:spPr>
          <a:xfrm>
            <a:off x="4533840" y="152280"/>
            <a:ext cx="438156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621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ll known Sesame Street Puppet, Bert, is changing his image and now is known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l Be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rry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34596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l started when he first made his appearance on the Jerry Springer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j1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429000" cy="2189160"/>
          </a:xfrm>
          <a:prstGeom prst="rect">
            <a:avLst/>
          </a:prstGeom>
          <a:ln w="0">
            <a:noFill/>
          </a:ln>
        </p:spPr>
      </p:pic>
      <p:pic>
        <p:nvPicPr>
          <p:cNvPr id="46" name="oj2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7180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oj3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laim that even though he wasn’t officially announced as one of the lawyers in the OJ Simpson trial he was heavily involved in leading the “Dream Team” to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resabert" descr=""/>
          <p:cNvPicPr/>
          <p:nvPr/>
        </p:nvPicPr>
        <p:blipFill>
          <a:blip r:embed="rId1"/>
          <a:stretch/>
        </p:blipFill>
        <p:spPr>
          <a:xfrm>
            <a:off x="3452760" y="228600"/>
            <a:ext cx="546264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981080"/>
            <a:ext cx="2590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made attempts to clean his image by pretending to do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know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anic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3352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shows that Bert is filled with nothing but evi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ia claims that the Titanic hit an iceberg but survivors speak otherw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ert4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0224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11430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history stems back to the early 1900’s when the media found these pictures of Bert and Hitler in their archi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den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362560" cy="444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6002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history, media shows Bert’s involvement with the Talaban Networ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ltimate proof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splaced photo that was recently found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m" descr=""/>
          <p:cNvPicPr/>
          <p:nvPr/>
        </p:nvPicPr>
        <p:blipFill>
          <a:blip r:embed="rId1"/>
          <a:stretch/>
        </p:blipFill>
        <p:spPr>
          <a:xfrm>
            <a:off x="609480" y="345960"/>
            <a:ext cx="784872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5:31:55Z</dcterms:created>
  <dc:creator>Victor Campos</dc:creator>
  <dc:description/>
  <dc:language>en-US</dc:language>
  <cp:lastModifiedBy>Victor Campos</cp:lastModifiedBy>
  <dcterms:modified xsi:type="dcterms:W3CDTF">2001-12-05T20:12:39Z</dcterms:modified>
  <cp:revision>2</cp:revision>
  <dc:subject/>
  <dc:title>PowerPoint Presentation</dc:title>
</cp:coreProperties>
</file>